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6A1-B973-4C28-8608-79493D02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7CA-B859-45B0-841B-B834A7DB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108-FAF2-40C8-8BE5-18A3C3F1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CB8-3A93-4E22-AB3C-A64F851F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43A-F0EB-4984-8F3C-9B583817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A3B-14A4-46D2-BC9F-BBC21AAA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A00-2AD5-47BB-9783-40EB34E0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425-B6EB-4F66-AE9A-E0239147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DF7-247E-4CF7-BCF4-BF443AAF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6E2-3491-4BE8-83EA-1952ECA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15D-6778-4892-A5E5-A171FD5B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309-83FA-4898-B192-4AB539F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846B-1354-4A30-B68A-625C3D05B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sters in Contemporary Performance and Compositi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CoPeCo)</a:t>
            </a:r>
            <a:br>
              <a:rPr sz="40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10193-LLP-1-2010-EE-ERASMUS-ECDS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je Lohua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tonian Academy of Music and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 of music technology for students of composition and interpretation. Preparation for creating projects with live electronics and multi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 of new media. Preparation for creating and presenting artistic projects by the means of new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t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and management of an artistic project in collaboration with departments of Cultur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ject Development Structure in Work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1: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Estonian Academy of Music and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tiv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all planning,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ject co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and external commun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2: Curriculum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National Conservatory of Music and Dance of Ly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ilation of curriculum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ment of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paration of a pilot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al implementation of the common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3: Qualit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The Hamburg University of Music and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cal quality as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lateral quality assurance (implementing a specific quality management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Monitoring national developments in the awarding of multiple and joint deg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4: Disse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Royal College of Music in Stockho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ment of the disseminatio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semination of information about the methodology and objectives of the project, its development and fina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5: Explo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Royal College of Music in Stockho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ment of the exploitatio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ting up of exploitation plan and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ion of exploitatio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paring exploit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ject consort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onian Academy of Music and Theatre (coordin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yal College of Music in Stockho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Hamburg University of Music and Thea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al Superior Conservatory of Music and Dance of L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uropean Association of Conservatoires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(A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ain goal of the project is to develop a new platform of contemporary music that proceeds from current European cultural contex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oPeCo (2010 – 20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int masters curriculum will be developed in two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ring the third year it will be tested with studen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’ particip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mak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dju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int admission will be opened in spring 20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oPeCo bud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otal estimated budget 281 355 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Out of which EU Grant 207 890 EUR (73,89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28600" y="64008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novative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ossdisciplinary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-to-date crossdisciplinary broa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d study of music in the context of contemporary cultural background. Lectures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temporary dance, literature, visual arts, cinema, theatre included in the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ossdisciplinary collaboration projects with departments of choreography, art academies, theatre academi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tive cooperation between composition and performance department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int study platform for students of composition and performance. The study programme is organized offering intensive cooperation and interaction between the students and the de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ating studies of free improvisation and experimental music into the curriculum of contemporary mu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0:43:25Z</dcterms:created>
  <dc:creator>Kasutaja</dc:creator>
  <dc:description/>
  <dc:language>en-US</dc:language>
  <cp:lastModifiedBy>Marje Lohuaru</cp:lastModifiedBy>
  <dcterms:modified xsi:type="dcterms:W3CDTF">2010-11-02T13:36:37Z</dcterms:modified>
  <cp:revision>39</cp:revision>
  <dc:subject/>
  <dc:title>Masters in Contemporary Performance and Composition (Copeco) </dc:title>
</cp:coreProperties>
</file>