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58C-8120-491D-BBC5-B12A3A76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1AE-9DD1-4242-BB94-95F0795D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2C5-3C08-4AC7-AC1B-7D38B108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380-A1C0-4592-930F-5EDCF40C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180-A728-497F-9C93-A1778B7A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2B9-2842-4C44-B8C1-E3C81CF9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34E-05F6-4DA9-B31C-643E7CD6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6B7-650D-4165-905A-8094978F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631-73A4-4FB8-805D-8EC1D8C1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34E-9115-4EC6-AA3D-878E1AE5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C97-2609-4434-8175-00D24E8C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F9D-299D-4584-AF5D-C6240EEE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E98A-A108-4AE5-BEB6-353CBBE06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sters in Contemporary Performance and Compositio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(CoPeCo)</a:t>
            </a:r>
            <a:br>
              <a:rPr sz="40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10193-LLP-1-2010-EE-ERASMUS-ECDSP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je Lohua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stonian Academy of Music and The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 of music technology for students of composition and interpretation. Preparation for creating projects with live electronics and multi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y of new media. Preparation for creating and presenting artistic projects by the means of new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rts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and management of an artistic project in collaboration with departments of Cultur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ject Development Structure in Work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orkpackage 1: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 partner: Estonian Academy of Music and The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ministrativ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verall planning,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ject coord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nal and external commun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orkpackage 2: Curriculum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 partner: National Conservatory of Music and Dance of Ly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ilation of curriculum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elopment of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paration of a pilot pr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al implementation of the common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orkpackage 3: Qualit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 partner: The Hamburg University of Music and Thea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cal quality as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lateral quality assurance (implementing a specific quality management sys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Monitoring national developments in the awarding of multiple and joint deg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orkpackage 4: Disse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 partner: Royal College of Music in Stockho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elopment of the dissemination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semination of information about the methodology and objectives of the project, its development and final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orkpackage 5: Explo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 partner: Royal College of Music in Stockho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elopment of the exploitation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ting up of exploitation plan and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ion of exploitation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paring exploita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ject consort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onian Academy of Music and Theatre (coordin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yal College of Music in Stockho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Hamburg University of Music and Thea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al Superior Conservatory of Music and Dance of L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uropean Association of Conservatoires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 (A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ain goal of the project is to develop a new platform of contemporary music that proceeds from current European cultural contex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CoPeCo (2010 – 20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int masters curriculum will be developed in two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uring the third year it will be tested with students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’ particip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make 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dju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int admission will be opened in spring 20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CoPeCo bud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otal estimated budget 281 355 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Out of which EU Grant 207 890 EUR (73,89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28600" y="64008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novative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ossdisciplinary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p-to-date crossdisciplinary broad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d study of music in the context of contemporary cultural background. Lectures </a:t>
            </a: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ntemporary dance, literature, visual arts, cinema, theatre included in the progra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ossdisciplinary collaboration projects with departments of choreography, art academies, theatre academie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tive cooperation between composition and performance department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int study platform for students of composition and performance. The study programme is organized offering intensive cooperation and interaction between the students and the de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grating studies of free improvisation and experimental music into the curriculum of contemporary mus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0:43:25Z</dcterms:created>
  <dc:creator>Kasutaja</dc:creator>
  <dc:description/>
  <dc:language>en-US</dc:language>
  <cp:lastModifiedBy>Marje Lohuaru</cp:lastModifiedBy>
  <dcterms:modified xsi:type="dcterms:W3CDTF">2010-11-02T13:36:37Z</dcterms:modified>
  <cp:revision>39</cp:revision>
  <dc:subject/>
  <dc:title>Masters in Contemporary Performance and Composition (Copeco) </dc:title>
</cp:coreProperties>
</file>